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70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entros%20PROA%2009-10.doc" TargetMode="External"/><Relationship Id="rId2" Type="http://schemas.openxmlformats.org/officeDocument/2006/relationships/hyperlink" Target="file:///Centros%20PROA%2009-10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TOCOLOS%20DE%20EVALUACI&#211;N%20INICIAL%20Junio%202004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ierra%20estella" TargetMode="External"/><Relationship Id="rId2" Type="http://schemas.openxmlformats.org/officeDocument/2006/relationships/hyperlink" Target="file:///tierra%20estella" TargetMode="External"/><Relationship Id="rId3" Type="http://schemas.openxmlformats.org/officeDocument/2006/relationships/hyperlink" Target="file:///EJEMPLOS%20DE%20SESIONES.doc" TargetMode="External"/><Relationship Id="rId4" Type="http://schemas.openxmlformats.org/officeDocument/2006/relationships/hyperlink" Target="file:///EJEMPLOS%20DE%20SESIONES.doc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1083960"/>
            <a:ext cx="79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ORNADAS N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iago de Compos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y 23 de Octubre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acompañamiento escolar más allá del horario lecti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476280"/>
            <a:ext cx="770400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GRAMA DE ACOMPAÑ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Mesa redonda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Organización, contenido y metodología del acompañamiento escolar ¿Cómo se trabaja en las diferentes etapa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700280"/>
            <a:ext cx="7704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QUEMA GENERAL DE LA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1.- ORGANIZACIÓN PROA DE ACOMPAÑ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2. Es un programa de Cent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3. Problemas que se detec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2.- CONTENIDO - 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 (Lengua y Matemáti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4. Integración escolar y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3.- METODOLOG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1. Competencias doc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– C.P. San J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4.- CONCLU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3640" y="677520"/>
            <a:ext cx="7524720" cy="44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- ORGANIZACIÓN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484280"/>
            <a:ext cx="76327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1. CENTROS CON EL PROGRAMA EN NAVA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Centros PROA 09-10.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2. ES UN PROGRAMA DE CE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PROBLEMAS QUE SE DETEC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341360"/>
            <a:ext cx="770400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Áreas instrumentales de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Lengu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terial elaborado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2º a 6º de E.P. y de 1º A 3º de E.S.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PROTOCOLOS DE EVALUACIÓN INICIAL Junio 2004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Bloques de contenidos + Actividades tipo + Tabla de indicadores de Evaluación + Registro colectivo + Ayuda para contrastar la Evaluación inicial, continua y final en colaboración con el tu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050840"/>
            <a:ext cx="7705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rganización del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fección de un hor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grama diario y sema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da: tareas, peticiones, consignas, coordina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tierra 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est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EJEMPLOS DE </a:t>
            </a:r>
            <a:r>
              <a:rPr b="0" lang="es-ES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SESIONES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3 Programacion_model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écnicas de estudio: L2SER y EPL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écnicas de est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7628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197000"/>
            <a:ext cx="7705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</a:t>
            </a:r>
            <a:fld id="{13FFED0F-B1DD-4C4B-8DD6-DA4AC63695C7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fld id="{85192966-DF2F-4F85-8F0E-21C1B25AC699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7705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</a:t>
            </a:r>
            <a:fld id="{98629C71-6F07-40E7-993B-72CEA4D89B90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fld id="{1B726D37-5EE3-4C82-9230-1D830D8F2337}" type="slidenum">
              <a:rPr b="0" lang="es-ES_tradnl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559640" cy="47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- 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1484280"/>
            <a:ext cx="7632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1. COMPETENCIAS DOCENTES REFERIDAS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enseñanza-aprendizaje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relación con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entorno del a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lenguajes y medios de comunicación y a los recursos didác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ética y la deontología, al análisis crítico y a la actualización profe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ompetencias doc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- CP SAN J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VALUACIÓN CURRICULAR LENG Y MAT.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ffff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- 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341360"/>
            <a:ext cx="7704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S ESPECÍFICOS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PLANTEAMIENTO DE CENTRO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BE SER CONOCIDO Y ASUMIDO COMO 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ORMACIÓN DEL PROFESOR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cambio de experi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 de promover la comunicación-intercambio entre el profesorado del programa mediante las vías neces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omper con el aislamien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tos programas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LABORACIÓN CON ENTIDADES, ONGs Y OTRAS INSTIT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67640" y="6093000"/>
            <a:ext cx="1243080" cy="52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2:10:43Z</dcterms:created>
  <dc:creator>.</dc:creator>
  <dc:description/>
  <dc:language>en-US</dc:language>
  <cp:lastModifiedBy>.</cp:lastModifiedBy>
  <dcterms:modified xsi:type="dcterms:W3CDTF">2009-10-15T12:56:14Z</dcterms:modified>
  <cp:revision>4</cp:revision>
  <dc:subject/>
  <dc:title>Diapositiva 1</dc:title>
</cp:coreProperties>
</file>