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D99E-F3D7-4AFD-B489-51B3D0B43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0AF5-6681-4BFC-BC38-CD80C22E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E34B-C5BB-4BBD-B478-AB241B2DF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51F5-3779-4ABE-934B-C1D305ED2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F4B3-DAF8-471A-BEA1-32E6945AB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F7C1B-6BB6-4984-90D9-9BF74C70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32B3-3DAE-4EAB-98A1-597F7B8B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BC102-1F99-4532-911A-573935D6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E4A4-2F69-4472-9435-7D494F53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14C0-3222-4E9D-9FFD-BF9C8AC8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9EB0-D997-459E-884F-CC46614B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2962-5B45-4299-B200-AEF4E3E0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360FE-27BD-43D7-AA2C-2190F959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1C289-5124-422D-816C-ACCA5A72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B6AA-339C-49D3-A2DE-57FAE768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38ABA-6E78-46D7-B6ED-96CB8F2AC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6C2D-CB8B-43EA-94DB-4FFD7A74C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DBE2-2791-47DF-B481-E53E0503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651F-892A-4AA4-8FB2-875B65C2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4FBD-2B57-45E3-99F0-E2BE742F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6B04-B283-4C05-994F-4C8B35B8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A792-906D-45DC-8D16-E96BF001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B6FF-7E34-4F1E-845C-067966DA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9110-5FD8-45BC-981D-659396C9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4C01-33EA-4828-B19A-E4B6DDA85D69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45F0-D75C-4A02-908E-2873AEED72F1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Centros%20PROA%2009-10.doc" TargetMode="External"/><Relationship Id="rId2" Type="http://schemas.openxmlformats.org/officeDocument/2006/relationships/hyperlink" Target="file:///Centros%20PROA%2009-10.doc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ierra%20estella" TargetMode="External"/><Relationship Id="rId2" Type="http://schemas.openxmlformats.org/officeDocument/2006/relationships/hyperlink" Target="file:///tierra%20estella" TargetMode="External"/><Relationship Id="rId3" Type="http://schemas.openxmlformats.org/officeDocument/2006/relationships/hyperlink" Target="file:///EJEMPLOS%20DE%20SESIONES.doc" TargetMode="External"/><Relationship Id="rId4" Type="http://schemas.openxmlformats.org/officeDocument/2006/relationships/hyperlink" Target="file:///EJEMPLOS%20DE%20SESIONES.doc" TargetMode="Externa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4360" y="1083960"/>
            <a:ext cx="7920000" cy="45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ahoma"/>
              </a:rPr>
              <a:t>JORNADAS NACION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antiago de Compost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2 y 23 de Octubre de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acompañamiento escolar más allá del horario lectiv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877080" y="6021360"/>
            <a:ext cx="2050920" cy="6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4360" y="476280"/>
            <a:ext cx="7704000" cy="1151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ROGRAMA DE ACOMPAÑ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ffffff"/>
                </a:solidFill>
                <a:uFillTx/>
                <a:latin typeface="Tahoma"/>
              </a:rPr>
              <a:t>Mesa redonda 1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: Organización, contenido y metodología del acompañamiento escolar ¿Cómo se trabaja en las diferentes etapas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1916280"/>
            <a:ext cx="7704000" cy="42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Tahoma"/>
              </a:rPr>
              <a:t>ESQUEMA GENERAL DE LA PRES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1.- ORGANIZACIÓN PROA DE ACOMPAÑ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1.1. Centros con el programa en Navar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1.2. Es un programa de Centr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1.3. Dificultades que se detect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2.- CONTENIDO - OBJE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2.1. Desarrollo y afianzamiento de las competencias básicas (Lengua y Matemática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2.2. Habilidades de estudio y hábito de trabaj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2.3. Asesoramiento y apoyo personal en las tareas esco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2.4. Integración escolar y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3.- METODOLOGÍ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3.1. Competencias doc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3.2. Importancia de un diagnóstico adecuado – Caso práctico – C.P. San Jo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4.- CONCLU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877080" y="6021360"/>
            <a:ext cx="2050920" cy="6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63640" y="677520"/>
            <a:ext cx="7524720" cy="447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.- ORGANIZACIÓN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"/>
          <p:cNvSpPr/>
          <p:nvPr/>
        </p:nvSpPr>
        <p:spPr>
          <a:xfrm>
            <a:off x="826920" y="1484280"/>
            <a:ext cx="763272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1.1. CENTROS CON EL PROGRAMA EN NAVAR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996600"/>
                </a:solidFill>
                <a:uFillTx/>
                <a:latin typeface="Tahoma"/>
                <a:hlinkClick r:id="rId1"/>
              </a:rPr>
              <a:t>Centros PROA 09-10.</a:t>
            </a:r>
            <a:r>
              <a:rPr b="0" lang="es-ES" sz="1400" spc="-1" strike="noStrike" u="sng">
                <a:solidFill>
                  <a:srgbClr val="996600"/>
                </a:solidFill>
                <a:uFillTx/>
                <a:latin typeface="Tahoma"/>
                <a:hlinkClick r:id="rId2"/>
              </a:rPr>
              <a:t>d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1.2. ES UN PROGRAMA DE CEN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1.3. DIFICULTADES QUE SE DETECT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877080" y="6021360"/>
            <a:ext cx="2050920" cy="61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11280" y="549360"/>
            <a:ext cx="77756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.- CONTENIDO - 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1341360"/>
            <a:ext cx="7704000" cy="32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2.1. DESARROLLO Y AFIANZAMIENTO DE LAS COMPETENCIAS BÁ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-Áreas instrumentales de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ahoma"/>
              </a:rPr>
              <a:t>Lengua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ahoma"/>
              </a:rPr>
              <a:t>Matemát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terial elaborado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de 2º a 6º de E.P. y de 1º A 3º de E.S.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ROTOCOLOS DE EVALUACIÓN INICIAL (Bloques de contenidos + Actividades tipo + Tabla de indicadores de Evaluación + Registro colectivo + Ayuda para contrastar la Evaluación inicial, continua y final en colaboración con el tut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77080" y="6021360"/>
            <a:ext cx="2050920" cy="61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11280" y="1050840"/>
            <a:ext cx="7705800" cy="40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2.2. HABILIDADES DE ESTUDIO Y HÁBITO DE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Organización del e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fección de un horar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grama diario y seman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genda: tareas, peticiones, consignas, coordinación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996600"/>
                </a:solidFill>
                <a:uFillTx/>
                <a:latin typeface="Tahoma"/>
                <a:hlinkClick r:id="rId1"/>
              </a:rPr>
              <a:t>tierra </a:t>
            </a:r>
            <a:r>
              <a:rPr b="0" lang="es-ES" sz="1400" spc="-1" strike="noStrike" u="sng">
                <a:solidFill>
                  <a:srgbClr val="996600"/>
                </a:solidFill>
                <a:uFillTx/>
                <a:latin typeface="Tahoma"/>
                <a:hlinkClick r:id="rId2"/>
              </a:rPr>
              <a:t>estel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996600"/>
                </a:solidFill>
                <a:uFillTx/>
                <a:latin typeface="Tahoma"/>
                <a:hlinkClick r:id="rId3"/>
              </a:rPr>
              <a:t>EJEMPLOS DE </a:t>
            </a:r>
            <a:r>
              <a:rPr b="0" lang="es-ES" sz="1400" spc="-1" strike="noStrike" u="sng">
                <a:solidFill>
                  <a:srgbClr val="996600"/>
                </a:solidFill>
                <a:uFillTx/>
                <a:latin typeface="Tahoma"/>
                <a:hlinkClick r:id="rId4"/>
              </a:rPr>
              <a:t>SESIONES.d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03 Programacion_modelo.d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277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Técnicas de estudio: L2SER y EPL2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Técnicas de estu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277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476280"/>
            <a:ext cx="77756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.- CONTENIDO - OBJETIVOS (continu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6877080" y="6021360"/>
            <a:ext cx="2050920" cy="61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11280" y="404640"/>
            <a:ext cx="77756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.- CONTENIDO - OBJETIVOS (continu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1197000"/>
            <a:ext cx="7705800" cy="52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2.3. ASESORAMIENTO Y APOYO PERSONAL EN LAS TAREAS ESCO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- Revisar los contenidos referidos a las tareas sin asimila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04 REGISTRO DIARIO DE SEGUIMIENTO.d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xplicación (individual o grupal) acerca de dichos contenidos (Utilizando material gráfico, dibujo, imágenes para facilitar el acercamiento a su zona de desarrollo próxim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- Requerir o solicitar del alumno dudas existentes de for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cr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- Recabar el razonamiento de las tareas realizadas mediante pregunt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Por qué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Para qué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Cóm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877080" y="6021360"/>
            <a:ext cx="2050920" cy="61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11280" y="404640"/>
            <a:ext cx="77756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.- CONTENIDO - OBJETIVOS(continu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125360"/>
            <a:ext cx="7705800" cy="51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2.4. INTEGRACIÓN SOCIAL Y ESC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utoest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rocedimientos y estrategias para reforzar la autoest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rácticas que reducen la autovaloración posi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ecomendaciones gene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Habilidades so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scala de conducta, de integración escolar y social del alum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ESCAL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scala de integración de la familia en el cen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77080" y="6021360"/>
            <a:ext cx="205092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900000" y="765000"/>
            <a:ext cx="7559640" cy="47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3.- 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1484280"/>
            <a:ext cx="7632720" cy="49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3.1. COMPETENCIAS DOCENTES REFERIDAS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a enseñanza-aprendizaje de conten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a relación con el alumn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l entorno del a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os lenguajes y medios de comunicación y a los recursos didáct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a ética y la deontología, al análisis crítico y a la actualización profes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Competencias doc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3.2. IMPORTANCIA DE UN DIAGNÓSTICO ADECUADO – CASO PRÁCTICO - CP SAN J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EVALUACIÓN CURRICULAR LENG Y MAT.x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877080" y="6021360"/>
            <a:ext cx="205092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1280" y="549360"/>
            <a:ext cx="77756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4.- CONCLU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1341360"/>
            <a:ext cx="7704000" cy="48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ROGRAMAS ESPECÍFICOS </a:t>
            </a:r>
            <a:r>
              <a:rPr b="1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PLANTEAMIENTO DE CENTRO </a:t>
            </a:r>
            <a:r>
              <a:rPr b="1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DEBE SER CONOCIDO Y ASUMIDO COMO 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ORMACIÓN DEL PROFESOR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tercambio de experi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ecesidad de promover la comunicación-intercambio entre el profesorado del programa mediante las vías necesa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omper con el aislamiento 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Estos programas son neces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LABORACIÓN CON ENTIDADES, ONGs Y OTRAS INSTITU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77080" y="6021360"/>
            <a:ext cx="205092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7T06:59:15Z</dcterms:created>
  <dc:creator>N230325</dc:creator>
  <dc:description/>
  <dc:language>en-US</dc:language>
  <cp:lastModifiedBy>N241480</cp:lastModifiedBy>
  <cp:lastPrinted>2005-06-21T06:52:46Z</cp:lastPrinted>
  <dcterms:modified xsi:type="dcterms:W3CDTF">2009-10-19T07:36:25Z</dcterms:modified>
  <cp:revision>157</cp:revision>
  <dc:subject/>
  <dc:title>Presentación de materiales. Sección de Multiculturalidad e Inmigración Curso 2004-2005</dc:title>
</cp:coreProperties>
</file>