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289-0070-4A90-88EC-0485F03A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176-680D-499C-87E4-89C5B66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28F-A65F-41BF-B599-3E533ABD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6CD-8EC7-4F2D-9389-C904E3D0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C76-16CA-4FDA-AA80-53FCD794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C7C-6621-46DD-B8A3-84BC9A33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8E23-9A37-425C-B314-9EF5F49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098-8A26-4255-AC2E-6148C832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C15-E64A-4CD4-9EAC-C9715054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B451-B3D9-4DF6-8366-91A469BB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DDD-68D3-4F95-ABAD-1744D8E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D0F-FF71-4403-B02E-2B4F2B9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5D9B-CB4D-4A53-A346-A951879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78A5-058D-43F1-832E-CD1FBE4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F47E-8674-4544-8AE3-3F41E66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1C0C-F35D-4DBC-B17C-FA58354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38EB-0C7C-46C6-BB1A-6C13C5D7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321-E9C5-4C4D-AEEE-DBA4654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436-8D67-42F9-93D9-6DB881B7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3A9-474F-466B-8D2C-BBE9C18E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C2E-C66D-4934-B04D-7574E04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63A-60DE-4CE1-82A8-0714FD1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9C3-E65E-43E7-B18F-2CC1F6A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AC6-8317-44B4-AC87-C9BEDE1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657-1BBA-4834-9497-A70BF93CEDB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DD9B-65B0-49F5-B313-DF16438725C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entros%20PROA%2009-10.doc" TargetMode="External"/><Relationship Id="rId2" Type="http://schemas.openxmlformats.org/officeDocument/2006/relationships/hyperlink" Target="file:///Centros%20PROA%2009-10.doc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ierra%20estella" TargetMode="External"/><Relationship Id="rId2" Type="http://schemas.openxmlformats.org/officeDocument/2006/relationships/hyperlink" Target="file:///tierra%20estella" TargetMode="External"/><Relationship Id="rId3" Type="http://schemas.openxmlformats.org/officeDocument/2006/relationships/hyperlink" Target="file:///EJEMPLOS%20DE%20SESIONES.doc" TargetMode="External"/><Relationship Id="rId4" Type="http://schemas.openxmlformats.org/officeDocument/2006/relationships/hyperlink" Target="file:///EJEMPLOS%20DE%20SESIONES.doc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083960"/>
            <a:ext cx="792000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JORNAD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tiago de Compos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2 y 23 de Octubre d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acompañamiento escolar más allá del horario lec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476280"/>
            <a:ext cx="770400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GRAMA DE ACOMPAÑ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Mesa redonda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Organización, contenido y metodología del acompañamiento escolar ¿Cómo se trabaja en las diferentes etap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916280"/>
            <a:ext cx="7704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QUEMA GENERAL DE LA 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1.- ORGANIZACIÓN PROA DE ACOMP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2. Es un programa de Cent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3. Dificultades que se detec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2.- CONTENIDO - OBJE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 (Lengua y Matemátic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4. Integración escolar y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3.- METODOLOGÍ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1. Competencias do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– C.P. San J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4.- CONCLU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640" y="677520"/>
            <a:ext cx="7524720" cy="44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 ORGAN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484280"/>
            <a:ext cx="76327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1"/>
              </a:rPr>
              <a:t>Centros PROA 09-10.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2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2. ES UN PROGRAMA DE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3. DIFICULTADES QUE SE DETEC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341360"/>
            <a:ext cx="7704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Áreas instrumentales de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Lengu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terial elaborado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2º a 6º de E.P. y de 1º A 3º de E.S.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OTOCOLOS DE EVALUACIÓN INICIAL (Bloques de contenidos + Actividades tipo + Tabla de indicadores de Evaluación + Registro colectivo + Ayuda para contrastar la Evaluación inicial, continua y final en colaboración con el tu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050840"/>
            <a:ext cx="7705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rganización del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fección de un hora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grama diario y sema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da: tareas, peticiones, consignas, coordina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1"/>
              </a:rPr>
              <a:t>tierra 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2"/>
              </a:rPr>
              <a:t>est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3"/>
              </a:rPr>
              <a:t>EJEMPLOS DE 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4"/>
              </a:rPr>
              <a:t>SESIONES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3 Programacion_modelo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écnicas de estudio: L2SER y EPL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écnicas de e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628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770580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25360"/>
            <a:ext cx="770580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4. INTEGRACIÓN SOCIAL Y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cedimientos y estrategias para reforzar la 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ácticas que reducen la autovalo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omendacione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lidad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ala de conducta, de integración escolar y social del alum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SCAL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ala de integración de la familia en e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00000" y="765000"/>
            <a:ext cx="7559640" cy="47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 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632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1. COMPETENCIAS DOCENTES REFERIDAS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enseñanza-aprendizaje de conte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relación con el alum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entorno del 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lenguajes y medios de comunicación y a los recursos didác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ética y la deontología, al análisis crítico y a la actualización profe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ompetencias doc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- CP SAN J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VALUACIÓN CURRICULAR LENG Y MAT.x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.- 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341360"/>
            <a:ext cx="7704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S ESPECÍFICOS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PLANTEAMIENTO DE CENTRO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BE SER CONOCIDO Y ASUMIDO COMO 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ORMACIÓN DEL PROFESOR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cambio de experi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 de promover la comunicación-intercambio entre el profesorado del programa mediante las vías neces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omper con el aislamien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tos programas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LABORACIÓN CON ENTIDADES, ONGs Y OTRAS INSTIT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6:59:15Z</dcterms:created>
  <dc:creator>N230325</dc:creator>
  <dc:description/>
  <dc:language>en-US</dc:language>
  <cp:lastModifiedBy>N241480</cp:lastModifiedBy>
  <cp:lastPrinted>2005-06-21T06:52:46Z</cp:lastPrinted>
  <dcterms:modified xsi:type="dcterms:W3CDTF">2009-10-19T07:36:25Z</dcterms:modified>
  <cp:revision>157</cp:revision>
  <dc:subject/>
  <dc:title>Presentación de materiales. Sección de Multiculturalidad e Inmigración Curso 2004-2005</dc:title>
</cp:coreProperties>
</file>