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0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70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entros%20PROA%2009-10.doc" TargetMode="External"/><Relationship Id="rId2" Type="http://schemas.openxmlformats.org/officeDocument/2006/relationships/hyperlink" Target="file:///Centros%20PROA%2009-10.do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ROTOCOLOS%20DE%20EVALUACI&#211;N%20INICIAL%20Junio%202004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ierra%20estella" TargetMode="External"/><Relationship Id="rId2" Type="http://schemas.openxmlformats.org/officeDocument/2006/relationships/hyperlink" Target="file:///tierra%20estella" TargetMode="External"/><Relationship Id="rId3" Type="http://schemas.openxmlformats.org/officeDocument/2006/relationships/hyperlink" Target="file:///EJEMPLOS%20DE%20SESIONES.doc" TargetMode="External"/><Relationship Id="rId4" Type="http://schemas.openxmlformats.org/officeDocument/2006/relationships/hyperlink" Target="file:///EJEMPLOS%20DE%20SESIONES.doc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1083960"/>
            <a:ext cx="7920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JORNADAS N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iago de Compos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y 23 de Octubre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acompañamiento escolar más allá del horario lectiv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476280"/>
            <a:ext cx="7704000" cy="1151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GRAMA DE ACOMPAÑ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Mesa redonda 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Organización, contenido y metodología del acompañamiento escolar ¿Cómo se trabaja en las diferentes etap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700280"/>
            <a:ext cx="77040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ESQUEMA GENERAL DE LA 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1.- ORGANIZACIÓN PROA DE ACOMPAÑ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1. Centros con el programa en Navar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2. Es un programa de Cent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3. Problemas que se detec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2.- CONTENIDO - 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1. Desarrollo y afianzamiento de las competencias básicas (Lengua y Matemáti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2. Habilidades de estudio y hábito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3. Asesoramiento y apoyo personal en las tareas esco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4. Integración escolar y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3.- METODOLOG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1. Competencia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2. Importancia de un diagnóstico adecuado – Caso práctico – C.P. San J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4.- CONCLU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3640" y="677520"/>
            <a:ext cx="7524720" cy="44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- ORGANIZACIÓN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484280"/>
            <a:ext cx="763272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1. CENTROS CON EL PROGRAMA EN NAVA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Centros PROA 09-10.</a:t>
            </a: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2. ES UN PROGRAMA DE CEN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3. PROBLEMAS QUE SE DETEC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1280" y="54936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- CONTENIDO -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341360"/>
            <a:ext cx="7704000" cy="33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.1. DESARROLLO Y AFIANZAMIENTO DE LAS COMPETENCIAS BÁ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Áreas instrumentales de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Lengu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Matem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terial elaborado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de 2º a 6º de E.P. y de 1º A 3º de E.S.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PROTOCOLOS DE EVALUACIÓN INICIAL Junio 2004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Bloques de contenidos + Actividades tipo + Tabla de indicadores de Evaluación + Registro colectivo + Ayuda para contrastar la Evaluación inicial, continua y final en colaboración con el tu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1050840"/>
            <a:ext cx="77058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.2. HABILIDADES DE ESTUDIO Y HÁBITO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Organización del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fección de un hor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grama diario y sema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genda: tareas, peticiones, consignas, coordinac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tierra </a:t>
            </a: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est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EJEMPLOS DE </a:t>
            </a: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SESIONES.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03 Programacion_modelo.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écnicas de estudio: L2SER y EPL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écnicas de estu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47628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- CONTENIDO - OBJETIVOS (continu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40464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- CONTENIDO - OBJETIVOS (continu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197000"/>
            <a:ext cx="77058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3. ASESORAMIENTO Y APOYO PERSONAL EN LAS TAREAS ESCO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visar los contenidos referidos a las tareas sin asimi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04 REGISTRO DIARIO DE SEGUIMIENTO.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licación (individual o grupal) acerca de dichos</a:t>
            </a:r>
            <a:fld id="{8072DF9C-BA2C-4F32-9322-7F4EF0827BDA}" type="slidenum">
              <a:rPr b="0" lang="es-ES_tradnl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fld id="{C7E5DE5F-E52C-4DE5-9ED5-C1413BD444B8}" type="slidenum">
              <a:rPr b="0" lang="es-ES_tradnl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contenidos (Utilizando material gráfico, dibujo, imágenes para facilitar el acercamiento a su zona de desarrollo próxi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querir o solicitar del alumno dudas existentes de 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c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cabar el razonamiento de las tareas realizadas mediante pregun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ara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40464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- CONTENIDO - OBJETIVOS (continu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77058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3. ASESORAMIENTO Y APOYO PERSONAL EN LAS TAREAS ESCO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visar los contenidos referidos a las tareas sin asimi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04 REGISTRO DIARIO DE SEGUIMIENTO.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licación (individual o grupal) acerca de dichos</a:t>
            </a:r>
            <a:fld id="{D9191813-C8E1-4765-A3FC-BFBC07C21AF2}" type="slidenum">
              <a:rPr b="0" lang="es-ES_tradnl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fld id="{210666C7-AFD7-44F4-8E63-AFCF7C58C1E9}" type="slidenum">
              <a:rPr b="0" lang="es-ES_tradnl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contenidos (Utilizando material gráfico, dibujo, imágenes para facilitar el acercamiento a su zona de desarrollo próxi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querir o solicitar del alumno dudas existentes de 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c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cabar el razonamiento de las tareas realizadas mediante pregun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ara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765000"/>
            <a:ext cx="7559640" cy="47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- 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1484280"/>
            <a:ext cx="76327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3.1. COMPETENCIAS DOCENTES REFERIDAS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enseñanza-aprendizaje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relación con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entorno del a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lenguajes y medios de comunicación y a los recursos didác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ética y la deontología, al análisis crítico y a la actualización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ompetencias doc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3.2. IMPORTANCIA DE UN DIAGNÓSTICO ADECUADO – CASO PRÁCTICO - CP SAN J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VALUACIÓN CURRICULAR LENG Y MAT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54936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- 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341360"/>
            <a:ext cx="7704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GRAMAS ESPECÍFICOS </a:t>
            </a:r>
            <a:r>
              <a:rPr b="1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PLANTEAMIENTO DE CENTRO </a:t>
            </a:r>
            <a:r>
              <a:rPr b="1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DEBE SER CONOCIDO Y ASUMIDO COMO 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ORMACIÓN DEL PROFESOR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cambio de experi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ecesidad de promover la comunicación-intercambio entre el profesorado del programa mediante las vías neces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omper con el aislamient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Estos programas son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LABORACIÓN CON ENTIDADES, ONGs Y OTRAS INSTIT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2:10:43Z</dcterms:created>
  <dc:creator>.</dc:creator>
  <dc:description/>
  <dc:language>en-US</dc:language>
  <cp:lastModifiedBy>.</cp:lastModifiedBy>
  <dcterms:modified xsi:type="dcterms:W3CDTF">2009-10-15T12:56:14Z</dcterms:modified>
  <cp:revision>4</cp:revision>
  <dc:subject/>
  <dc:title>Diapositiva 1</dc:title>
</cp:coreProperties>
</file>