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CDDF-90FD-4EEE-B05B-12928421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8C3D-1E7B-4560-B9C2-C7DB78F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AA4E-3348-4D57-B3EC-BB0468E9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2F5E-0BE1-45F2-B458-D98B5CBA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71C2-14DE-4757-915E-0ED30CBD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90D1-CC5B-47BC-91AA-61E66B1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0A9C-6C56-4B87-8D13-4E355A6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641-9894-47FB-8AF2-43ED7982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1E2-E8FA-4E52-AC54-2FAFAB2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C5F-D664-44A0-B28B-227D02E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A611-1CE9-44D1-86B7-C5331D07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5FAE-7941-4E42-A1C4-4833EDF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42D2-F28F-4997-92AA-4562642A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DC27-D9CC-484B-9C4C-FB4CECC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0D8-F890-4370-91AD-E861C59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8D27-ABC5-419C-B4A6-F648FE7E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6DA7-8B36-4A06-AC38-26B4E95B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607A-92AD-46D6-A8EE-95490D27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B351-8F8B-4641-BBB3-7B178E1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6BE5-13F4-4330-80F4-42EF52BA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98DD-796F-4C80-BD2B-2046F82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3D49-628B-4C80-8727-04D7D69B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276B-2EE4-4D1A-8704-234ACE5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DEEF-3CF9-45E0-81E5-71CF6546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30E6-F313-4DF7-8D67-C2DE1C1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CCBF-EB32-4A9E-8747-BF81B8D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BC07-DAAC-46A0-AD11-34CE25A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F6C1-0684-401E-A41C-4D983483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37F5-42D7-44AE-B964-A2BB9519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A811-BF67-4B53-8F90-9A5CBB55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B9CA-36D5-4881-AFE5-6A9592D0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861AA-46CC-4085-8824-0A653F9A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A7C5-42D6-49FB-A0B6-40A6A48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6605-745B-4C20-AADA-4133499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B8ED-B41E-4834-8BCC-19D7574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CDC2-8226-466A-B624-7BCB5E8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D91D-4422-4D58-B3FB-345DAE50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1A9A-0B09-42FB-BD86-8DF62A3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59D2-5BEA-4E8F-9DA9-F2D9978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A853-83DB-4288-90A4-8A18205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48BB-01BD-461B-B10F-DA5C4289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D5ED-1F72-4711-9089-C3960EA9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05D3-78B6-4359-85C1-D0B45709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2C96-5BCE-4EB4-8B16-700FDB18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EE3F-325E-4326-A3CF-5416AF74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EA2F-5861-4ADA-B59E-AF8ADAC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6E30-1511-4848-A63C-77DA182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0ADC-E835-4AE9-8D4D-B71D9F4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8142-EDAC-43D2-BD5B-34C26EEFDA2F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7077-F28E-4DEE-BA14-F58837DFE753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2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0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292-D012-4308-9F49-8AB23F5DA829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2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2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A517-59F3-4B3B-9646-E1D573DC112F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Colegio"/>
          <p:cNvPicPr/>
          <p:nvPr/>
        </p:nvPicPr>
        <p:blipFill>
          <a:blip r:embed="rId2"/>
          <a:srcRect l="0" t="22795" r="30" b="16181"/>
          <a:stretch/>
        </p:blipFill>
        <p:spPr>
          <a:xfrm>
            <a:off x="1619280" y="1557360"/>
            <a:ext cx="5616720" cy="360036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sp>
        <p:nvSpPr>
          <p:cNvPr id="278" name="WordArt 8"/>
          <p:cNvSpPr txBox="1"/>
          <p:nvPr/>
        </p:nvSpPr>
        <p:spPr>
          <a:xfrm>
            <a:off x="1979640" y="5516640"/>
            <a:ext cx="540072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317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.E.I.P "ANTONIO BELTRÁN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1332000" y="333360"/>
            <a:ext cx="59436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GRAMA DE ACOMPAÑAMIEN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95640" y="59500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ZARAGOZ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137440" cy="47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METODOLOGÍ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Responderá a los intereses y motivaciones de los alumno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nfoque totalmente práct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Materiales (impreso, digital, agenda.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spacios (Aulas, Audiovisuales, Sala Informática, Bibliote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ersonales (Profesores del Centro, -tres con remuneración y otro con flexibilidad horaria-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EMPORALIZACIÓ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Octubre-Jun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lases de 12,30 a 13,30 de lunes a jue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oordinación profesores-coordinador/a 1 h sem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7020000" y="5661000"/>
            <a:ext cx="720720" cy="79236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RELACIÓN FAMIL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Tres Reuniones generales a lo largo del cur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ontacto semanal, a través de la agen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Durante el 2º trimestre se hacen reuniones individuales entre el profesor de PROA y las famili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n la última reunión se evalúan resultados conjuntam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RELACIÓN TUTO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uniones formales cada trimest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uniones puntuales cuando sea necesa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611280" y="1147680"/>
            <a:ext cx="691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 Evaluación alumnos:</a:t>
            </a: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Evaluación inicia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Evaluación contin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Evaluación f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Los criterios de evaluación se basarán e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Los resultados académic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La actitud de los alumnos (organización de tareas, recursos y estrategias, motivación y autoestima...)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desarrollo de capacidades en torno al estudio</a:t>
            </a: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2 Evaluación del progra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•   </a:t>
            </a: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por los profesores , tutores, alumnos  y famil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7308720" y="5300640"/>
            <a:ext cx="792360" cy="8650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1258920" y="907920"/>
            <a:ext cx="583416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¡ GRACIA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R    SU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ENCIÓN !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edida de atención a la diversidad par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esarrollo de hábitos de trabajo, estimulación de la lectura y mejora de habilidades soci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4"/>
          <p:cNvSpPr/>
          <p:nvPr/>
        </p:nvSpPr>
        <p:spPr>
          <a:xfrm>
            <a:off x="4356000" y="1268280"/>
            <a:ext cx="360" cy="648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203640" y="404640"/>
            <a:ext cx="2663640" cy="86364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4500720" y="2349360"/>
            <a:ext cx="360" cy="1008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4572000" y="4437000"/>
            <a:ext cx="360" cy="863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843280" y="5661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5º y 6º E. prim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1332000" y="333360"/>
            <a:ext cx="5761080" cy="57636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987640" y="119700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059280" y="404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755640" y="24210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3059280" y="1268280"/>
            <a:ext cx="244764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468360" y="2565360"/>
            <a:ext cx="3166920" cy="1943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348000" y="1413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. Dir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1979640" y="155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68360" y="2637000"/>
            <a:ext cx="316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sentación al claustro del Prog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6948360" y="1628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5724360" y="2492280"/>
            <a:ext cx="2808360" cy="194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6156360" y="2421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Selección Profesores y Coordinad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5508720" y="162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35"/>
          <p:cNvSpPr/>
          <p:nvPr/>
        </p:nvSpPr>
        <p:spPr>
          <a:xfrm flipH="1">
            <a:off x="1979280" y="1557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36"/>
          <p:cNvSpPr/>
          <p:nvPr/>
        </p:nvSpPr>
        <p:spPr>
          <a:xfrm>
            <a:off x="3635280" y="35002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050920" y="333360"/>
            <a:ext cx="4537080" cy="673200"/>
          </a:xfrm>
          <a:prstGeom prst="rect">
            <a:avLst/>
          </a:prstGeom>
          <a:solidFill>
            <a:srgbClr val="9933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  <a:ea typeface="SimSun"/>
              </a:rPr>
              <a:t>PRO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584520" y="1577880"/>
            <a:ext cx="1828800" cy="571680"/>
          </a:xfrm>
          <a:prstGeom prst="rect">
            <a:avLst/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Coordinador/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Profesores del PRO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69920" y="1577880"/>
            <a:ext cx="1828800" cy="457200"/>
          </a:xfrm>
          <a:prstGeom prst="rect">
            <a:avLst/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Tutores/as DE 5º Y 6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99120" y="1577880"/>
            <a:ext cx="1600200" cy="571680"/>
          </a:xfrm>
          <a:prstGeom prst="rect">
            <a:avLst/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Equipo Direc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Orientador/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470400" y="2606760"/>
            <a:ext cx="1600200" cy="53496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b200"/>
                </a:solidFill>
                <a:uFillTx/>
                <a:latin typeface="Century Gothic"/>
                <a:ea typeface="SimSun"/>
                <a:hlinkClick r:id="rId1" action="ppaction://hlinksldjump"/>
              </a:rPr>
              <a:t>Selección de alumnos/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527120" y="2606760"/>
            <a:ext cx="1600200" cy="34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b200"/>
                </a:solidFill>
                <a:uFillTx/>
                <a:latin typeface="Century Gothic"/>
                <a:ea typeface="SimSun"/>
                <a:hlinkClick r:id="rId2" action="ppaction://hlinksldjump"/>
              </a:rPr>
              <a:t>Objetiv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413320" y="2606760"/>
            <a:ext cx="1600200" cy="5713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b200"/>
                </a:solidFill>
                <a:uFillTx/>
                <a:latin typeface="Century Gothic"/>
                <a:ea typeface="SimSun"/>
                <a:hlinkClick r:id="rId3" action="ppaction://hlinksldjump"/>
              </a:rPr>
              <a:t>Relación con las famili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4384800" y="1006560"/>
            <a:ext cx="0" cy="5713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2212920" y="1235160"/>
            <a:ext cx="45720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2212920" y="1235160"/>
            <a:ext cx="0" cy="3427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6784920" y="1235160"/>
            <a:ext cx="0" cy="3427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4384800" y="2149560"/>
            <a:ext cx="0" cy="45720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2556000" y="2378160"/>
            <a:ext cx="33145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2556000" y="2378160"/>
            <a:ext cx="0" cy="22860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5870520" y="2378160"/>
            <a:ext cx="0" cy="22860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2784600" y="2035080"/>
            <a:ext cx="685800" cy="57168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Line 18"/>
          <p:cNvSpPr/>
          <p:nvPr/>
        </p:nvSpPr>
        <p:spPr>
          <a:xfrm flipH="1">
            <a:off x="5070240" y="2149560"/>
            <a:ext cx="1028520" cy="45720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1547640" y="3284640"/>
            <a:ext cx="1600200" cy="34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b200"/>
                </a:solidFill>
                <a:uFillTx/>
                <a:latin typeface="Century Gothic"/>
                <a:ea typeface="SimSun"/>
                <a:hlinkClick r:id="rId4" action="ppaction://hlinksldjump"/>
              </a:rPr>
              <a:t>Contenid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1527120" y="3978360"/>
            <a:ext cx="1600200" cy="34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Metodologí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527120" y="4664160"/>
            <a:ext cx="1600200" cy="34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22"/>
          <p:cNvSpPr/>
          <p:nvPr/>
        </p:nvSpPr>
        <p:spPr>
          <a:xfrm>
            <a:off x="1332000" y="2060640"/>
            <a:ext cx="0" cy="274320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3127320" y="4778280"/>
            <a:ext cx="1600200" cy="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24"/>
          <p:cNvSpPr/>
          <p:nvPr/>
        </p:nvSpPr>
        <p:spPr>
          <a:xfrm flipH="1" flipV="1">
            <a:off x="4716000" y="3141720"/>
            <a:ext cx="11160" cy="163656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4727520" y="3978360"/>
            <a:ext cx="1257480" cy="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26"/>
          <p:cNvSpPr/>
          <p:nvPr/>
        </p:nvSpPr>
        <p:spPr>
          <a:xfrm flipV="1">
            <a:off x="5985000" y="3177720"/>
            <a:ext cx="0" cy="80028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27"/>
          <p:cNvSpPr/>
          <p:nvPr/>
        </p:nvSpPr>
        <p:spPr>
          <a:xfrm>
            <a:off x="2327400" y="5006880"/>
            <a:ext cx="0" cy="45720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612720" y="5464080"/>
            <a:ext cx="7658280" cy="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29"/>
          <p:cNvSpPr/>
          <p:nvPr/>
        </p:nvSpPr>
        <p:spPr>
          <a:xfrm flipV="1">
            <a:off x="612720" y="777600"/>
            <a:ext cx="0" cy="468612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30"/>
          <p:cNvSpPr/>
          <p:nvPr/>
        </p:nvSpPr>
        <p:spPr>
          <a:xfrm flipV="1">
            <a:off x="8271000" y="777600"/>
            <a:ext cx="0" cy="468612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612720" y="777960"/>
            <a:ext cx="1943280" cy="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32"/>
          <p:cNvSpPr/>
          <p:nvPr/>
        </p:nvSpPr>
        <p:spPr>
          <a:xfrm flipH="1">
            <a:off x="5985000" y="777960"/>
            <a:ext cx="2286000" cy="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2327400" y="2949480"/>
            <a:ext cx="0" cy="3430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Line 34"/>
          <p:cNvSpPr/>
          <p:nvPr/>
        </p:nvSpPr>
        <p:spPr>
          <a:xfrm>
            <a:off x="2327400" y="3635280"/>
            <a:ext cx="0" cy="3430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35"/>
          <p:cNvSpPr/>
          <p:nvPr/>
        </p:nvSpPr>
        <p:spPr>
          <a:xfrm>
            <a:off x="2327400" y="4321080"/>
            <a:ext cx="0" cy="3430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36"/>
          <p:cNvSpPr/>
          <p:nvPr/>
        </p:nvSpPr>
        <p:spPr>
          <a:xfrm>
            <a:off x="1332000" y="4797360"/>
            <a:ext cx="228600" cy="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37"/>
          <p:cNvSpPr/>
          <p:nvPr/>
        </p:nvSpPr>
        <p:spPr>
          <a:xfrm>
            <a:off x="5940360" y="4508640"/>
            <a:ext cx="189072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2200"/>
                </a:solidFill>
                <a:latin typeface="Century Gothic"/>
              </a:rPr>
              <a:t>DOCUM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38"/>
          <p:cNvSpPr/>
          <p:nvPr/>
        </p:nvSpPr>
        <p:spPr>
          <a:xfrm>
            <a:off x="2916360" y="1844640"/>
            <a:ext cx="647640" cy="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6000" y="633240"/>
            <a:ext cx="57355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Selección profesores: Crite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Antigüedad en el progra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Haber participado en el mismo (Incluso en otro centr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Definitivo en el Cen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Se utilizan en el caso de ser más profesores que grup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3 Flecha curvada hacia la izquierda"/>
          <p:cNvSpPr/>
          <p:nvPr/>
        </p:nvSpPr>
        <p:spPr>
          <a:xfrm>
            <a:off x="7072200" y="5429160"/>
            <a:ext cx="1143000" cy="7858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2760 h 785880"/>
              <a:gd name="textAreaBottom" fmla="*/ 5648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49298"/>
                <a:lnTo>
                  <a:pt x="3713" y="21500"/>
                </a:lnTo>
                <a:lnTo>
                  <a:pt x="0" y="16200"/>
                </a:lnTo>
                <a:lnTo>
                  <a:pt x="3713" y="10700"/>
                </a:lnTo>
                <a:lnTo>
                  <a:pt x="3713" y="13400"/>
                </a:lnTo>
                <a:arcTo wR="21600" hR="6750" stAng="3649298" swAng="-318331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Selección de alum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43000"/>
            <a:ext cx="82072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alumnos en 5º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ropuesta de las tutoras de 4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ropuesta conjuntamente con los tutores de 3º ciclo y Coordinador/ a al Equipo Directivo y Orientad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alumnos de 6º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Se revisan los alumnos que han estado en PROA en 5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Se analizan resultados obtenidos el curso anterior y  sus cambios en actitud, autoestima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Se decide los cambios para el curso que comienz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Y además, los tutores,  rellenan el cuestionario para identificar mejor a los participan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7380360" y="5516640"/>
            <a:ext cx="1008000" cy="576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696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Mejorar las expectativas de los alumnos,  sobre sus propias capac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Implicación de las familias en el proceso aprendizaje de sus hijos/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Potenciar el aprendizaje y el rendimiento escolar de estos alumnos para  mejorar resultados académicos media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 adquisición de hábitos de organización y constancia en el trabaj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Mejora en habilidades y actitudes asociadas a lectura y escri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7596360" y="5734080"/>
            <a:ext cx="576000" cy="647640"/>
          </a:xfrm>
          <a:custGeom>
            <a:avLst/>
            <a:gdLst>
              <a:gd name="textAreaLeft" fmla="*/ 77040 w 576000"/>
              <a:gd name="textAreaRight" fmla="*/ 498960 w 57600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CONTENID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70581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Técnicas de estudio y estrategias de aprendiza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Ambiente de estudio y distribución de la jornada escolar y personal de estu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Trabajo de memoria y pensamiento lat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ectura comprensiv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Expresión oral y escri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Razonamiento lógico y Cálcu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Presentación y limpieza de los trabaj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Uso de la agenda esco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Programación trimest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Gothic"/>
              </a:rPr>
              <a:t>1º trimestre: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Trabajar teóricamente cada técnica de est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Gothic"/>
              </a:rPr>
              <a:t>2º trimestre: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Aplicar la técnica adecuada a cada contenido en gru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Gothic"/>
              </a:rPr>
              <a:t>3º trimestre: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Aplicación individual de la técnica adecuada ante cada activid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7236000" y="530064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09-10-21T21:24:58Z</dcterms:modified>
  <cp:revision>13</cp:revision>
  <dc:subject/>
  <dc:title>PowerPoint Presentation</dc:title>
</cp:coreProperties>
</file>